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type.wav" ContentType="audio/x-wav"/>
  <Override PartName="/ppt/media/image21.wmf" ContentType="image/x-wmf"/>
  <Override PartName="/ppt/media/image23.wmf" ContentType="image/x-wmf"/>
  <Override PartName="/ppt/media/whoosh.wav" ContentType="audio/x-wav"/>
  <Override PartName="/ppt/media/image22.wmf" ContentType="image/x-wmf"/>
  <Override PartName="/ppt/media/image28.wmf" ContentType="image/x-wmf"/>
  <Override PartName="/ppt/media/image6.png" ContentType="image/png"/>
  <Override PartName="/ppt/media/image14.wmf" ContentType="image/x-wmf"/>
  <Override PartName="/ppt/media/image10.wmf" ContentType="image/x-wmf"/>
  <Override PartName="/ppt/media/image8.png" ContentType="image/png"/>
  <Override PartName="/ppt/media/carbrake.wav" ContentType="audio/x-wav"/>
  <Override PartName="/ppt/media/image16.wmf" ContentType="image/x-wmf"/>
  <Override PartName="/ppt/media/image25.wmf" ContentType="image/x-wmf"/>
  <Override PartName="/ppt/media/image2.wmf" ContentType="image/x-wmf"/>
  <Override PartName="/ppt/media/image9.wmf" ContentType="image/x-wmf"/>
  <Override PartName="/ppt/media/image26.wmf" ContentType="image/x-wmf"/>
  <Override PartName="/ppt/media/image27.wmf" ContentType="image/x-wmf"/>
  <Override PartName="/ppt/media/image4.wmf" ContentType="image/x-wmf"/>
  <Override PartName="/ppt/media/image5.wmf" ContentType="image/x-wmf"/>
  <Override PartName="/ppt/media/laser.wav" ContentType="audio/x-wav"/>
  <Override PartName="/ppt/media/image12.wmf" ContentType="image/x-wmf"/>
  <Override PartName="/ppt/media/image3.wmf" ContentType="image/x-wmf"/>
  <Override PartName="/ppt/media/image29.jpeg" ContentType="image/jpeg"/>
  <Override PartName="/ppt/media/image13.wmf" ContentType="image/x-wmf"/>
  <Override PartName="/ppt/media/image7.jpeg" ContentType="image/jpeg"/>
  <Override PartName="/ppt/media/image1.wmf" ContentType="image/x-wmf"/>
  <Override PartName="/ppt/media/image24.wmf" ContentType="image/x-wmf"/>
  <Override PartName="/ppt/media/image11.wmf" ContentType="image/x-wmf"/>
  <Override PartName="/ppt/media/camera.wav" ContentType="audio/x-wav"/>
  <Override PartName="/ppt/media/image15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28DF-6BDF-4111-BA28-E9FA60E45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C975-4CBE-45F5-B238-1ACBE181F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D9C4-DBFE-439C-A78E-25D758115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14B3-9815-4883-9B3F-0FFD72092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0A5D5-6183-4FE6-BE54-6572B931C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91F5D-9363-4390-BD1B-05C3B63F7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DCD17-F116-4230-BBF8-79CB8AC76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420E8-C61E-413B-945B-F02545936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5C074-3EBA-470E-9FA6-43DEB6704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39969-E527-4734-9A58-83EAC16D2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B29D9-1371-4317-B0ED-37A83C33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77F5-645A-4C72-A7FF-77D3E438A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DCBE0-5F84-4D9B-8799-857D7AF0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FCC5F-4BC5-4ED9-ADB0-7A55C439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DE237-10B6-413C-8594-1C8FAE0B1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5D1A4-1A6D-42D8-A6DE-3CBF5A153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2ECB0-B89E-41B5-95C9-BC3869355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A981-6227-4F44-9282-564D7F369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609B-1F07-4156-A658-AB5C7FF38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5E3E-BE93-4D0C-9931-DCB1C23C6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5B73-4187-4767-8A91-CCEF0A73B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C969-70D6-4391-9692-2733BFFC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0CDE-B8B3-4DBC-94B5-46358049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36E2-7A1A-4877-BCF9-8BBB03E0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CB869-45F4-45BC-8F5B-9F4FEE8E055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1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AutoShape 13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Group 1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BA850-737D-48E8-9A68-9F97C801692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audio" Target="../media/carbrake.wav"/><Relationship Id="rId10" Type="http://schemas.openxmlformats.org/officeDocument/2006/relationships/audio" Target="../media/carbrake.wav"/><Relationship Id="rId11" Type="http://schemas.openxmlformats.org/officeDocument/2006/relationships/audio" Target="../media/carbrake.wav"/><Relationship Id="rId12" Type="http://schemas.openxmlformats.org/officeDocument/2006/relationships/audio" Target="../media/carbrake.wav"/><Relationship Id="rId13" Type="http://schemas.openxmlformats.org/officeDocument/2006/relationships/audio" Target="../media/carbrake.wav"/><Relationship Id="rId14" Type="http://schemas.openxmlformats.org/officeDocument/2006/relationships/audio" Target="../media/carbrake.wav"/><Relationship Id="rId1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file:///usr/lib/libreoffice/share/gallery/sounds/laser.wav" TargetMode="External"/><Relationship Id="rId2" Type="http://schemas.microsoft.com/office/2007/relationships/media" Target="file:///usr/lib/libreoffice/share/gallery/sounds/laser.wav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eteri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92840" y="2361960"/>
            <a:ext cx="39225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p to now we’ve talked about actions that happen in the present, that happen on a regular basis, or that are happening right now.  These verbs are in the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imple presen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esent progressiv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6" name="Picture 5" descr="bd06811_"/>
          <p:cNvPicPr/>
          <p:nvPr/>
        </p:nvPicPr>
        <p:blipFill>
          <a:blip r:embed="rId1"/>
          <a:stretch/>
        </p:blipFill>
        <p:spPr>
          <a:xfrm>
            <a:off x="1484280" y="2362320"/>
            <a:ext cx="19875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nd now, a few trickier ones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ac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 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ú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él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4" name="Picture 5" descr="pe02716_"/>
          <p:cNvPicPr/>
          <p:nvPr/>
        </p:nvPicPr>
        <p:blipFill>
          <a:blip r:embed="rId1"/>
          <a:stretch/>
        </p:blipFill>
        <p:spPr>
          <a:xfrm>
            <a:off x="1371600" y="2438280"/>
            <a:ext cx="2819520" cy="26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aca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495320" y="2361960"/>
            <a:ext cx="44197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 saqu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é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ú sac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s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él sac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sac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m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sac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r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erbs whose bases end in –car make a spelling change in the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m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only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 c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é &gt; qué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t’s a spelling change to retain the original pronuncia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Picture 5" descr="pe02716_"/>
          <p:cNvPicPr/>
          <p:nvPr/>
        </p:nvPicPr>
        <p:blipFill>
          <a:blip r:embed="rId1"/>
          <a:stretch/>
        </p:blipFill>
        <p:spPr>
          <a:xfrm>
            <a:off x="1447920" y="2362320"/>
            <a:ext cx="281916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tro verbo semejante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ag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 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ú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él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Picture 5" descr="bd04887_"/>
          <p:cNvPicPr/>
          <p:nvPr/>
        </p:nvPicPr>
        <p:blipFill>
          <a:blip r:embed="rId1"/>
          <a:stretch/>
        </p:blipFill>
        <p:spPr>
          <a:xfrm>
            <a:off x="1523880" y="2438280"/>
            <a:ext cx="289584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aga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1640" y="2361960"/>
            <a:ext cx="4343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 pagu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é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ú pag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s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él pag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pag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m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pag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r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erbs whose bases end in –gar make a spelling change in the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m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only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 g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é &gt; gué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Picture 5" descr="bd04887_"/>
          <p:cNvPicPr/>
          <p:nvPr/>
        </p:nvPicPr>
        <p:blipFill>
          <a:blip r:embed="rId1"/>
          <a:stretch/>
        </p:blipFill>
        <p:spPr>
          <a:xfrm>
            <a:off x="1447920" y="2590920"/>
            <a:ext cx="289548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0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5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0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5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5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n grupo m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Arial"/>
              </a:rPr>
              <a:t>ás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ncontr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 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ú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él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6" name="Picture 5" descr="an02122_"/>
          <p:cNvPicPr/>
          <p:nvPr/>
        </p:nvPicPr>
        <p:blipFill>
          <a:blip r:embed="rId1"/>
          <a:stretch/>
        </p:blipFill>
        <p:spPr>
          <a:xfrm>
            <a:off x="1600200" y="2438280"/>
            <a:ext cx="23590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contra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62520" y="2361960"/>
            <a:ext cx="49528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yo encontr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é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ú encontr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s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él encontr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encontr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m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encontr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r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9" name="Picture 5" descr="an02122_"/>
          <p:cNvPicPr/>
          <p:nvPr/>
        </p:nvPicPr>
        <p:blipFill>
          <a:blip r:embed="rId1"/>
          <a:stretch/>
        </p:blipFill>
        <p:spPr>
          <a:xfrm>
            <a:off x="1143000" y="2438280"/>
            <a:ext cx="2513160" cy="25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3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3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3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3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contrar (o &gt; ue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419720" y="2361960"/>
            <a:ext cx="44956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ncontr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é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ú encontr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s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él encontr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encontr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m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encontr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r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Encontra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is a stem-changing verb, but stem-changers in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–a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–e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do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not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hange in the preterit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2" name="Picture 5" descr="an02122_"/>
          <p:cNvPicPr/>
          <p:nvPr/>
        </p:nvPicPr>
        <p:blipFill>
          <a:blip r:embed="rId1"/>
          <a:stretch/>
        </p:blipFill>
        <p:spPr>
          <a:xfrm>
            <a:off x="1295280" y="2438280"/>
            <a:ext cx="26640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riously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ry this one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menzar (e &gt; i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 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ú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él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5" name="Picture 5" descr="pe01981_"/>
          <p:cNvPicPr/>
          <p:nvPr/>
        </p:nvPicPr>
        <p:blipFill>
          <a:blip r:embed="rId1"/>
          <a:stretch/>
        </p:blipFill>
        <p:spPr>
          <a:xfrm>
            <a:off x="1523880" y="2362320"/>
            <a:ext cx="251316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enzar (e &gt; ie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yo comenc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é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ú comenz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s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él comenz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comenz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m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comenz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r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8" name="Picture 5" descr="pe03738_"/>
          <p:cNvPicPr/>
          <p:nvPr/>
        </p:nvPicPr>
        <p:blipFill>
          <a:blip r:embed="rId1"/>
          <a:stretch/>
        </p:blipFill>
        <p:spPr>
          <a:xfrm>
            <a:off x="1523880" y="2514600"/>
            <a:ext cx="2457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6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1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6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1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6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K, how about the reflexive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entarse (e &gt; i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 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ú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él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1" name="Picture 5" descr="bd05555_"/>
          <p:cNvPicPr/>
          <p:nvPr/>
        </p:nvPicPr>
        <p:blipFill>
          <a:blip r:embed="rId1"/>
          <a:stretch/>
        </p:blipFill>
        <p:spPr>
          <a:xfrm>
            <a:off x="1523880" y="2438280"/>
            <a:ext cx="27320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eteri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xt we’re going to learn how to talk about the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as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n Spanish.  One way is to talk about an action that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tarted 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and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finished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n the past.  This tense is called the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eterit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Picture 5" descr="an00010_"/>
          <p:cNvPicPr/>
          <p:nvPr/>
        </p:nvPicPr>
        <p:blipFill>
          <a:blip r:embed="rId1"/>
          <a:stretch/>
        </p:blipFill>
        <p:spPr>
          <a:xfrm>
            <a:off x="1174680" y="2362320"/>
            <a:ext cx="25704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ntarse (e &gt; ie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038120" y="2361960"/>
            <a:ext cx="48769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 me sent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é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ú te sent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s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él se sent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nos sent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m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se sent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r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lexive verbs change in the very same way.  Just don’t forget the reflexive pronoun before the main verb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4" name="Picture 5" descr="bd05555_"/>
          <p:cNvPicPr/>
          <p:nvPr/>
        </p:nvPicPr>
        <p:blipFill>
          <a:blip r:embed="rId1"/>
          <a:stretch/>
        </p:blipFill>
        <p:spPr>
          <a:xfrm>
            <a:off x="1017720" y="2362320"/>
            <a:ext cx="25794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3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3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3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3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3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3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3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3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3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3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3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3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about –ER &amp; –IR verb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038120" y="2361960"/>
            <a:ext cx="48769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endings are identical for –er &amp; -ir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ome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yo corr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í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ú corr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st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él corr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corr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mo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corr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ero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Escribi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yo escrib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í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ú escrib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st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él escrib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escrib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mo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escrib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ero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7" name="Picture 7" descr="bd05477_"/>
          <p:cNvPicPr/>
          <p:nvPr/>
        </p:nvPicPr>
        <p:blipFill>
          <a:blip r:embed="rId1"/>
          <a:stretch/>
        </p:blipFill>
        <p:spPr>
          <a:xfrm>
            <a:off x="914400" y="2728800"/>
            <a:ext cx="2819520" cy="21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ake a closer look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-a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-er / -i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é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-í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-ast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-is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-ó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-ió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-amo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-im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-aron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-ier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endings are very similar, except that the –er/-ir verb endings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alway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ntain an –i- and the –ar verb endings never do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0" name="Picture 5" descr="bd06615_"/>
          <p:cNvPicPr/>
          <p:nvPr/>
        </p:nvPicPr>
        <p:blipFill>
          <a:blip r:embed="rId1"/>
          <a:stretch/>
        </p:blipFill>
        <p:spPr>
          <a:xfrm>
            <a:off x="1371600" y="2819520"/>
            <a:ext cx="27432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t’s practice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end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 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ú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él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3" name="Picture 5" descr="bd05584_"/>
          <p:cNvPicPr/>
          <p:nvPr/>
        </p:nvPicPr>
        <p:blipFill>
          <a:blip r:embed="rId1"/>
          <a:stretch/>
        </p:blipFill>
        <p:spPr>
          <a:xfrm>
            <a:off x="1477800" y="2362320"/>
            <a:ext cx="23385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end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yo prend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í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ú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rend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s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él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rend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rend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m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rend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er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6" name="Picture 5" descr="bd05584_"/>
          <p:cNvPicPr/>
          <p:nvPr/>
        </p:nvPicPr>
        <p:blipFill>
          <a:blip r:embed="rId1"/>
          <a:stretch/>
        </p:blipFill>
        <p:spPr>
          <a:xfrm>
            <a:off x="1905120" y="2362320"/>
            <a:ext cx="18237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tro verbo, por favor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Recibi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 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ú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él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9" name="Picture 5" descr="so01579_"/>
          <p:cNvPicPr/>
          <p:nvPr/>
        </p:nvPicPr>
        <p:blipFill>
          <a:blip r:embed="rId1"/>
          <a:stretch/>
        </p:blipFill>
        <p:spPr>
          <a:xfrm>
            <a:off x="1676520" y="2514600"/>
            <a:ext cx="2385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cibi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yo recib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í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ú recib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s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él recib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recib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m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recib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er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2" name="Picture 5" descr="bd05560_"/>
          <p:cNvPicPr/>
          <p:nvPr/>
        </p:nvPicPr>
        <p:blipFill>
          <a:blip r:embed="rId1"/>
          <a:stretch/>
        </p:blipFill>
        <p:spPr>
          <a:xfrm>
            <a:off x="1149480" y="2362320"/>
            <a:ext cx="25383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 ver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verb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ve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s a little bit unusual because it does not take accent mark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yo v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ú vis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él vi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vim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vier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5" name="Picture 4" descr="bd06221_"/>
          <p:cNvPicPr/>
          <p:nvPr/>
        </p:nvPicPr>
        <p:blipFill>
          <a:blip r:embed="rId1"/>
          <a:stretch/>
        </p:blipFill>
        <p:spPr>
          <a:xfrm>
            <a:off x="1523880" y="2514600"/>
            <a:ext cx="27273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olver (o &gt; ue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 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ú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él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8" name="Picture 5" descr="pe03254_"/>
          <p:cNvPicPr/>
          <p:nvPr/>
        </p:nvPicPr>
        <p:blipFill>
          <a:blip r:embed="rId1"/>
          <a:stretch/>
        </p:blipFill>
        <p:spPr>
          <a:xfrm>
            <a:off x="1523880" y="2362320"/>
            <a:ext cx="2743200" cy="24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olver (o &gt; ue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yo volv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í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ú volv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s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él volv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volv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m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volv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er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Stem-changing –er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verbs do not change in the preterite!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1" name="Picture 5" descr="pe03254_"/>
          <p:cNvPicPr/>
          <p:nvPr/>
        </p:nvPicPr>
        <p:blipFill>
          <a:blip r:embed="rId1"/>
          <a:stretch/>
        </p:blipFill>
        <p:spPr>
          <a:xfrm>
            <a:off x="1600200" y="2438280"/>
            <a:ext cx="2666880" cy="24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eteri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 English, a preterite form looks like th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alk &gt; walk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lay &gt; play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ay &gt; sai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rive &gt; drov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e &gt; was, wer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ome are regular (predictable): play &gt; play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thers are irregular (unpredictable): go &gt; w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Picture 10" descr="C:\Users\708000282\AppData\Local\Microsoft\Windows\Temporary Internet Files\Content.IE5\8CWUNPO1\MC900157109[1].wmf"/>
          <p:cNvPicPr/>
          <p:nvPr/>
        </p:nvPicPr>
        <p:blipFill>
          <a:blip r:embed="rId1"/>
          <a:stretch/>
        </p:blipFill>
        <p:spPr>
          <a:xfrm>
            <a:off x="1171440" y="2819520"/>
            <a:ext cx="30402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nd stem-changing –IR verb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038120" y="2361960"/>
            <a:ext cx="48769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o you remember that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–i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verbs are special in the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–ndo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m because they make a vowel change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ormir (o &gt; ue) &gt;&gt; d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u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miend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rvir (e &gt; i) &gt;&gt; s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i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viend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referir (e &gt; ie) &gt;&gt; pref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i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iend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ell, guess what?  They change in the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é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/ellos form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onl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yo dorm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í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ú dorm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st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él d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u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rm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dorm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mo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d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u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rm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ero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4" name="Picture 5" descr="an00932_"/>
          <p:cNvPicPr/>
          <p:nvPr/>
        </p:nvPicPr>
        <p:blipFill>
          <a:blip r:embed="rId1"/>
          <a:stretch/>
        </p:blipFill>
        <p:spPr>
          <a:xfrm>
            <a:off x="914400" y="2943360"/>
            <a:ext cx="2895480" cy="18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nother ex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estirse (e &gt; i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yo me vest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í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ú te vest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s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él se v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st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nos vest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m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se v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st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er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7" name="Picture 5" descr="bd06634_"/>
          <p:cNvPicPr/>
          <p:nvPr/>
        </p:nvPicPr>
        <p:blipFill>
          <a:blip r:embed="rId1"/>
          <a:stretch/>
        </p:blipFill>
        <p:spPr>
          <a:xfrm>
            <a:off x="1447920" y="2362320"/>
            <a:ext cx="27414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75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75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75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75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6" dur="75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9" dur="75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n momento, por favor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ere are three mor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edir (e &gt; i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él p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di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p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dier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eferir (e &gt; i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él pref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ri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prefirier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rvir (e &gt; i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él s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rvi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s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rvier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0" name="Picture 5" descr="bd05117_"/>
          <p:cNvPicPr/>
          <p:nvPr/>
        </p:nvPicPr>
        <p:blipFill>
          <a:blip r:embed="rId1"/>
          <a:stretch/>
        </p:blipFill>
        <p:spPr>
          <a:xfrm>
            <a:off x="1371600" y="2514600"/>
            <a:ext cx="29718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75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75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75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7" dur="75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75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75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75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75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6" dur="75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75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t’s practice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loria ______ (llegar) a la oficina a las 8 y ______ (empezar) a trabajar.  Primero, _______ (terminar) una carta.  Despu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és,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_______ (escribir) un informe. Luego, _____ (pedir) el almuerz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3" name="Picture 5" descr="bd00005_"/>
          <p:cNvPicPr/>
          <p:nvPr/>
        </p:nvPicPr>
        <p:blipFill>
          <a:blip r:embed="rId1"/>
          <a:stretch/>
        </p:blipFill>
        <p:spPr>
          <a:xfrm>
            <a:off x="1523880" y="2362320"/>
            <a:ext cx="2268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Qu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Arial"/>
              </a:rPr>
              <a:t>é tal salió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loria lleg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ó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 la oficina a las 8 y empez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ó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 trabajar.  Primero, termi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ó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una carta.  Despu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és,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scribi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ó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un informe. Luego, pidi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ó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el almuerz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6" name="Picture 4" descr="bd00005_"/>
          <p:cNvPicPr/>
          <p:nvPr/>
        </p:nvPicPr>
        <p:blipFill>
          <a:blip r:embed="rId1"/>
          <a:stretch/>
        </p:blipFill>
        <p:spPr>
          <a:xfrm>
            <a:off x="1523880" y="2362320"/>
            <a:ext cx="2268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no m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Arial"/>
              </a:rPr>
              <a:t>ás, por favor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ú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______ (salir) de casa a las 7,30, ______ (llegar) a la oficina a las 8, y ______ (comenzar) a trabajar.  Primero, _______ (leer) varias cartas.  Despu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és,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_______ (escribir) un informe. Luego, _____ (pedir) el almuerzo.  Por fin, ________ (ver) a muchas personas y ________ (hablar) con ellas.  _________ (volver) a casa a las 4,3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9" name="Picture 5" descr="bd06126_"/>
          <p:cNvPicPr/>
          <p:nvPr/>
        </p:nvPicPr>
        <p:blipFill>
          <a:blip r:embed="rId1"/>
          <a:stretch/>
        </p:blipFill>
        <p:spPr>
          <a:xfrm>
            <a:off x="1371600" y="2438280"/>
            <a:ext cx="22096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Qu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Arial"/>
              </a:rPr>
              <a:t>é tal salió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ú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salist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de casa a las 7,30, 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llegast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a la oficina a las 8, y 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comenzast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a trabajar.  Primero, 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leist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varias cartas.  Despu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és, 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escribist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un informe. Luego, 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pedist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el almuerzo.  Por fin, 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vist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a muchas personas y 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hablast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n ellas.  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Volvist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a casa a las 4,30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2" name="Picture 5" descr="bd05380_"/>
          <p:cNvPicPr/>
          <p:nvPr/>
        </p:nvPicPr>
        <p:blipFill>
          <a:blip r:embed="rId1"/>
          <a:stretch/>
        </p:blipFill>
        <p:spPr>
          <a:xfrm>
            <a:off x="1676520" y="2438280"/>
            <a:ext cx="2590560" cy="24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at’s all, folks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992840" y="2361960"/>
            <a:ext cx="39225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w you are ready to work on the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irregula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preterite forms in verb set #12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5" name="Picture 4" descr="porky2"/>
          <p:cNvPicPr/>
          <p:nvPr/>
        </p:nvPicPr>
        <p:blipFill>
          <a:blip r:embed="rId1"/>
          <a:stretch/>
        </p:blipFill>
        <p:spPr>
          <a:xfrm>
            <a:off x="1380960" y="2362320"/>
            <a:ext cx="29880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eteri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 this presentation, we’ll look at the 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regula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eterite ending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ere’s a typical on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 habl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é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ú habl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s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él habl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habl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m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habl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r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Picture 5" descr="bd04956_"/>
          <p:cNvPicPr/>
          <p:nvPr/>
        </p:nvPicPr>
        <p:blipFill>
          <a:blip r:embed="rId1"/>
          <a:stretch/>
        </p:blipFill>
        <p:spPr>
          <a:xfrm>
            <a:off x="914400" y="2895480"/>
            <a:ext cx="297180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75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75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75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75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75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75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75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75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75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75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75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75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75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75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rm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038120" y="2361960"/>
            <a:ext cx="48769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endings for –AR verbs ar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yo - 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é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ú  - 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s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él  - 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 - 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m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 - 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r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tice the accent marks on the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yo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and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él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forms.  They are very important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Also notice that the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form is the same in both the present and the preterit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Picture 5" descr="bs02064_"/>
          <p:cNvPicPr/>
          <p:nvPr/>
        </p:nvPicPr>
        <p:blipFill>
          <a:blip r:embed="rId1"/>
          <a:stretch/>
        </p:blipFill>
        <p:spPr>
          <a:xfrm>
            <a:off x="1000080" y="2362320"/>
            <a:ext cx="258120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3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3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3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3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3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3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3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3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3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3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3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3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t’s Practice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mpr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 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ú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él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51460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C:\Users\708000282\AppData\Local\Microsoft\Windows\Temporary Internet Files\Content.IE5\YW3SK8B1\MP900442235[1].jpg"/>
          <p:cNvPicPr/>
          <p:nvPr/>
        </p:nvPicPr>
        <p:blipFill>
          <a:blip r:embed="rId4"/>
          <a:stretch/>
        </p:blipFill>
        <p:spPr>
          <a:xfrm>
            <a:off x="1476360" y="2362320"/>
            <a:ext cx="28004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2553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1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pra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yo compr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é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ú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mpr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s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él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mpr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mpr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m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mpr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r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Picture 8" descr="C:\Users\708000282\AppData\Local\Microsoft\Windows\Temporary Internet Files\Content.IE5\7XZGNAI3\MC900440391[1].png"/>
          <p:cNvPicPr/>
          <p:nvPr/>
        </p:nvPicPr>
        <p:blipFill>
          <a:blip r:embed="rId1"/>
          <a:stretch/>
        </p:blipFill>
        <p:spPr>
          <a:xfrm>
            <a:off x="1447920" y="270036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tro verbo, por favor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yud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 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ú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él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8" name="Picture 5" descr="bd05569_"/>
          <p:cNvPicPr/>
          <p:nvPr/>
        </p:nvPicPr>
        <p:blipFill>
          <a:blip r:embed="rId1"/>
          <a:stretch/>
        </p:blipFill>
        <p:spPr>
          <a:xfrm>
            <a:off x="1295280" y="2362320"/>
            <a:ext cx="3113280" cy="31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yuda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yo ayud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é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ú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yud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s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él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yud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yud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m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yud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r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Picture 5" descr="bd05569_"/>
          <p:cNvPicPr/>
          <p:nvPr/>
        </p:nvPicPr>
        <p:blipFill>
          <a:blip r:embed="rId1"/>
          <a:stretch/>
        </p:blipFill>
        <p:spPr>
          <a:xfrm>
            <a:off x="1003320" y="2362320"/>
            <a:ext cx="29592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30T21:31:30Z</dcterms:created>
  <dc:creator>test</dc:creator>
  <dc:description/>
  <dc:language>en-US</dc:language>
  <cp:lastModifiedBy>Windows User</cp:lastModifiedBy>
  <dcterms:modified xsi:type="dcterms:W3CDTF">2014-10-22T19:56:25Z</dcterms:modified>
  <cp:revision>17</cp:revision>
  <dc:subject/>
  <dc:title>Preterite</dc:title>
</cp:coreProperties>
</file>